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699250" cy="41767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214-CB7D-4842-A3E6-F0A7476E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602460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6240" y="2414160"/>
            <a:ext cx="602460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CD52-0FCC-4B5E-98E8-5C98016F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6240" y="241416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3240" y="241416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3C8-69ED-4A49-8E7D-6953ADE4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73120" y="97452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10360" y="97452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6240" y="241416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73120" y="241416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10360" y="2414160"/>
            <a:ext cx="193968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300-3AE8-405F-B419-5011002D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6240" y="974520"/>
            <a:ext cx="6024600" cy="275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55F2-3F01-44BD-BB1F-32095F04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602460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C7A-5D5A-43DF-827F-9C2413F0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AA4-B229-4748-958D-2B9D6207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2E9D-1921-4BD9-972B-E948567E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36240" y="166680"/>
            <a:ext cx="602460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23E1-1576-4257-B07E-72DA3D8F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6240" y="241416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AEB-1A53-44C8-B5A5-83406D4B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3240" y="241416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BCA-C2B8-4724-9856-287A9339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6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23240" y="974520"/>
            <a:ext cx="293976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6240" y="2414160"/>
            <a:ext cx="6024600" cy="13143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9665-C16F-4704-9F7D-2A0C06BA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36240" y="166680"/>
            <a:ext cx="6024600" cy="6969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ctr">
            <a:noAutofit/>
          </a:bodyPr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974520"/>
            <a:ext cx="6024600" cy="275580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rmAutofit fontScale="97000"/>
          </a:bodyPr>
          <a:p>
            <a:pPr marL="226080" indent="-226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89240" indent="-1875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52760" indent="-150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54800" indent="-150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56480" indent="-150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56480" indent="-150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56480" indent="-15084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36240" y="3803400"/>
            <a:ext cx="1560600" cy="2905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lstStyle>
            <a:lvl1pPr indent="0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8880" y="3803400"/>
            <a:ext cx="2119320" cy="2905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lstStyle>
            <a:lvl1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00240" y="3803400"/>
            <a:ext cx="1560600" cy="2905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0960" bIns="30960" anchor="t">
            <a:noAutofit/>
          </a:bodyPr>
          <a:lstStyle>
            <a:lvl1pPr indent="0" algn="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fld id="{ECA0D0E7-D994-4B8C-94BA-8E30AE9A8F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0" y="1440"/>
            <a:ext cx="670536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8:54:01Z</dcterms:created>
  <dc:creator>MSO</dc:creator>
  <dc:description/>
  <dc:language>en-US</dc:language>
  <cp:lastModifiedBy>MSO</cp:lastModifiedBy>
  <dcterms:modified xsi:type="dcterms:W3CDTF">2006-12-15T18:57:20Z</dcterms:modified>
  <cp:revision>1</cp:revision>
  <dc:subject/>
  <dc:title>Slide 1</dc:title>
</cp:coreProperties>
</file>